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7.jpeg" ContentType="image/jpeg"/>
  <Override PartName="/ppt/media/image42.png" ContentType="image/png"/>
  <Override PartName="/ppt/media/image45.png" ContentType="image/png"/>
  <Override PartName="/ppt/media/image46.jpeg" ContentType="image/jpeg"/>
  <Override PartName="/ppt/media/image5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52.jpeg" ContentType="image/jpeg"/>
  <Override PartName="/ppt/media/image3.png" ContentType="image/png"/>
  <Override PartName="/ppt/media/image33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ECD-CC33-49A3-8AB0-BD8B749D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7F3-EC0B-46BF-BB61-EBBB299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B3D-8E70-4FE4-BB6A-785414BB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BE6-9342-4977-A3EE-ABC2BD2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673-9C76-4796-820C-0F44FF7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91BE-8E9A-46FC-896D-49D6F16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3091-F4AC-4C9D-ABFC-EFC23C7E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FC86-6AE0-44D9-A1F5-56DB640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92BA-ACD1-4084-99E9-FBDBA61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4B26-E8C8-42BD-94CD-8EDA5921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9B85-0199-45F2-AC9A-6C0AEAB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F36-6EE1-4204-893E-0921A6E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929-FD25-4E87-AB70-59CCBBF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9C1-852C-45CC-9F8B-3953C0C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3AB3-D153-4FAC-B10B-0A9EC63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E85C-04CE-411E-9A79-6F03E9EB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6174-932B-4A90-8006-700F10D5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5AF6-EE73-4B16-8F2F-A767027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8701-FDA0-4F85-8ACE-1ADBFC3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9162-2416-4E8C-B986-92A40AD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1597-B94C-4F9D-81C3-CB7EFCE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9A7D-B1D5-4BEA-9D7A-A15EF13D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9E9-BF89-4750-9133-F81BABA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F2FAC-4622-4552-8399-4E8573D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FACF-DD16-4018-85C0-54DDFE7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54E4-2A98-4EE5-9CBE-7065685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B915-1396-4C63-82F2-B0094A9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3C67-F254-41CF-8EAF-8EB05FA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6937-7781-4791-B98E-660A1E7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EE8C-11E6-4F85-ABC3-BE5C9DAD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1898-FD8A-49C8-8619-39CF94F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4593-3E40-4AA5-9B19-80BB1E7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ADED-1894-40ED-931A-2B6894D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A32-FF05-4500-A0B6-1BDF325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6F9B-09CB-4678-8767-FD02797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3FEA-34EB-43E8-BDCE-2E5FF80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4F75-3C86-4E1F-9F3B-EDD9E13D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B056-5CCE-472F-B0A0-347F8EF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7BD3-4806-4CC9-9806-8C9791A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F884-1F92-4192-97A9-93CBBD1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7A2D-C958-47F5-B0C6-4E8F6BF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54C3-5569-466D-9117-76C02866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54E4-5CC4-46FB-B964-9B840DB7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9B5B-42D8-4FDA-8FF9-34187B3C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620-7A2E-48E7-BBBC-DF13B0C0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814B-DB9E-4921-B48C-5CF9A30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2065-B74C-41A7-9667-01CCC31D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F9E0-8B1E-4441-9F4F-38337B4D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5716-121C-4349-B91A-38BCF59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BB523-F1E3-471F-88D3-47AD13B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0F73-DCB9-43C3-9458-DF6D97D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C54D-893C-4A95-A915-2C4C178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6EAD-12CA-48FA-AB65-9DB4301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BE16-8423-47B2-996D-E145C6DC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DF3E-2C9F-44FA-8A81-54AB6DDD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D3F-1679-4571-88F2-2D2BDFDD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593E-7C4D-4A3C-8FBC-50CE7B79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D796-AF2D-4619-828A-653A5616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5377-B8B7-4EAE-8DB3-9951106C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6188-F901-4429-AD11-E1B8AD58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14BC-53BD-4E22-B11C-3AD5995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C965-40D5-451C-B789-E2FC4904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5871-DD88-4011-AC9D-D1FC7F5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10C00-8DEC-490C-9C6C-54F5ADA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E83F-8ED0-4063-93F2-75C4B80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B341-D2E2-4C32-9C49-7330B51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5FA-15DD-46C3-9F38-6BC9F9B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4F1ED-D33F-4F01-A797-2BD99FF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E452-B8AF-49BB-9E8D-3755DBC6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00F3C-F5B9-44D7-AC01-E38D0D21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3A18-4F28-4BDF-A61A-C2027497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5DF2-FD85-474B-8C7B-ED28EF9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A5C0-3501-44FB-96C5-A8437A7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3AFCA-448D-43C3-91BB-158CB2A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945BC-F197-4DD6-B15A-E6657B8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71F5-BA62-4663-B8C6-DD12E0B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CA12-B4F5-4D7B-A45D-D326986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594-C2C3-45D1-80CA-40C5CE4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EB53-89FF-4FD9-BEC7-035D930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CE63-7B45-4635-BDD3-940C194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8EF0-C2C9-4613-810C-7106A03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B028-DF2F-4219-8AF6-D6047733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3B4B-E0A7-41A9-9403-A4B71568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57B-2CCA-46B5-9957-EEE591A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92E-3A85-4892-88D0-43200FC2E4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3A9-CB75-4F13-8DBA-66DDB661533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28F-835A-4D92-BAD3-437401F529A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349-E7CA-4BA4-AF18-431B3E3C17F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9B88-4BFA-4209-84B9-5BBDC01D92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1F4-5381-4582-BDBF-98FA10393DB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DE4E-670B-46DD-8489-B00F436086C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bigmyth.com/myths/english/2_greek_full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zlyrics.com/lyrics/kanyewest/flashinglights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07732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Langu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ythology is the source of words such a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nuary- Jan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rtial arts - Ma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seum- Mu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Volcano- Vulc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ypnotism- Hypn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o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2590920" y="5232240"/>
            <a:ext cx="2361960" cy="1567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5759280" y="3063960"/>
            <a:ext cx="2895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0" name="Content Placeholder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267080" cy="2389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3"/>
          <a:stretch/>
        </p:blipFill>
        <p:spPr>
          <a:xfrm>
            <a:off x="5257800" y="34560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4"/>
          <a:stretch/>
        </p:blipFill>
        <p:spPr>
          <a:xfrm>
            <a:off x="609480" y="4591080"/>
            <a:ext cx="3810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488880" y="533520"/>
            <a:ext cx="3029040" cy="2384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2743200" y="3403440"/>
            <a:ext cx="6900840" cy="2800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5067360" y="423720"/>
            <a:ext cx="3657600" cy="2433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408312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Click M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6840" y="15235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In the beginning there was only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haos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--nothingness. Then came Death, Night, Day, Love, and the Heavens.  Eventually,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Gaea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the earth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peared. 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Gaea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gave birth to 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the sky, Uranus,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and he became her husband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eanwhile, Gaea and Uranus produced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Cyclopes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, monstrous beasts with one eye,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Hecatoncheires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, monsters with fifty heads and one-hundred arms, and twelve beautiful children called the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itans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ro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ecame the next ruler. He imprisoned the Cyclopes and the Hecatoncheires in Tartarus, the deepest pit in the earth. He married his sister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Rhe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under his rule the Titans had many offspring. He ruled for many ages. However,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Gae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ra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oth had prophesied that he would be overthrown by a son. To avoid th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ron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swallowed each of his children as they were bor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Zeus became the next ruler of the gods and goddesses.  He freed his sisters Hera, Hestia and Demeter.   He also free his brothers Hades and Poseidon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OlymZeus.jpg"/>
          <p:cNvPicPr/>
          <p:nvPr/>
        </p:nvPicPr>
        <p:blipFill>
          <a:blip r:embed="rId1"/>
          <a:stretch/>
        </p:blipFill>
        <p:spPr>
          <a:xfrm>
            <a:off x="152280" y="1600200"/>
            <a:ext cx="3429000" cy="4952880"/>
          </a:xfrm>
          <a:prstGeom prst="rect">
            <a:avLst/>
          </a:prstGeom>
          <a:ln w="0">
            <a:noFill/>
          </a:ln>
        </p:spPr>
      </p:pic>
      <p:pic>
        <p:nvPicPr>
          <p:cNvPr id="350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504960" y="1523520"/>
            <a:ext cx="5715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ZEUS (Roman name Jupiter) was the supreme god of the Olympians. Zeus was the youngest son of the Titans Cronus and Rhea. He controlled the sky and weath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85840" y="16761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ERA (Roman name Juno) was the goddess of marriage and childbirth. Hera was the wife of Zeus and Queen of the Olympian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OlymHera.jpg"/>
          <p:cNvPicPr/>
          <p:nvPr/>
        </p:nvPicPr>
        <p:blipFill>
          <a:blip r:embed="rId2"/>
          <a:stretch/>
        </p:blipFill>
        <p:spPr>
          <a:xfrm>
            <a:off x="304920" y="1752480"/>
            <a:ext cx="36576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74840" y="14097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nta Cla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Boogey M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nsters under the b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gfoo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mpir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Zomb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ramp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oth Fai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ter Bun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upacabr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428640" y="1600200"/>
            <a:ext cx="57150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OSEIDON (Roman name Neptune) was the god of the sea, earthquakes and horses. Poseidon was brother to Zeus and Hade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3" descr="OlymPoseidon.jpg"/>
          <p:cNvPicPr/>
          <p:nvPr/>
        </p:nvPicPr>
        <p:blipFill>
          <a:blip r:embed="rId2"/>
          <a:stretch/>
        </p:blipFill>
        <p:spPr>
          <a:xfrm>
            <a:off x="304920" y="152388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434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 Roman name is Plu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was also called the god of weal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2256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581280" y="1774800"/>
            <a:ext cx="5105520" cy="3178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S (Roman name Mars) was the god of war, or more precisely of warlike frenzy. His father was Ze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4" descr="OlymAres.jpg"/>
          <p:cNvPicPr/>
          <p:nvPr/>
        </p:nvPicPr>
        <p:blipFill>
          <a:blip r:embed="rId2"/>
          <a:stretch/>
        </p:blipFill>
        <p:spPr>
          <a:xfrm>
            <a:off x="152280" y="1523880"/>
            <a:ext cx="332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cuments and Settings\Owner.WATERCHASER\My Documents\My Pictures\Miscellaneous\Greek Sword.jpg"/>
          <p:cNvPicPr/>
          <p:nvPr/>
        </p:nvPicPr>
        <p:blipFill>
          <a:blip r:embed="rId1"/>
          <a:stretch/>
        </p:blipFill>
        <p:spPr>
          <a:xfrm rot="2879400">
            <a:off x="-1026720" y="1277640"/>
            <a:ext cx="4626000" cy="4626000"/>
          </a:xfrm>
          <a:prstGeom prst="rect">
            <a:avLst/>
          </a:prstGeom>
          <a:ln w="0">
            <a:noFill/>
          </a:ln>
        </p:spPr>
      </p:pic>
      <p:pic>
        <p:nvPicPr>
          <p:cNvPr id="365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3048120" y="1752480"/>
            <a:ext cx="5257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The Roman god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r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, with whom Ares was identified, was the father of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omulu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mus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, the mythological founders of Rome. Therefore, he was more important to the Romans than his Greek counterpar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352680" y="1447560"/>
            <a:ext cx="5639040" cy="4724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THENA (Roman name Minerva) was the goddess of wisdom, crafts, weaving, and war strategy. She was the patron goddess of Athens. Her father was Zeus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4" descr="OlymAthena.jpg"/>
          <p:cNvPicPr/>
          <p:nvPr/>
        </p:nvPicPr>
        <p:blipFill>
          <a:blip r:embed="rId2"/>
          <a:stretch/>
        </p:blipFill>
        <p:spPr>
          <a:xfrm>
            <a:off x="152280" y="1523880"/>
            <a:ext cx="3327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OlymArtemis.jpg"/>
          <p:cNvPicPr/>
          <p:nvPr/>
        </p:nvPicPr>
        <p:blipFill>
          <a:blip r:embed="rId1"/>
          <a:stretch/>
        </p:blipFill>
        <p:spPr>
          <a:xfrm>
            <a:off x="5562720" y="1738440"/>
            <a:ext cx="3616200" cy="41148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-228960" y="15235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TEMIS (Roman name Diana) was the virgin goddess of  wild animals, hunting, and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on. She helped women in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ildbirth but also brough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dden death with her arrow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e was the daughter of Ze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523880"/>
            <a:ext cx="3733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the goddess of the hearth (fireplace), Hestia personified the fire burning in the hearth of every home in Greece.  Her Roman name is Vest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6352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733920" y="1371240"/>
            <a:ext cx="5410080" cy="5845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METER (Roman name Ceres) was the goddess of agriculture and grain. Demeter was the sister of Zeu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3" descr="OlymDemeter.jpg"/>
          <p:cNvPicPr/>
          <p:nvPr/>
        </p:nvPicPr>
        <p:blipFill>
          <a:blip r:embed="rId2"/>
          <a:stretch/>
        </p:blipFill>
        <p:spPr>
          <a:xfrm>
            <a:off x="228600" y="1981080"/>
            <a:ext cx="3479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114800" y="1774800"/>
            <a:ext cx="4572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EPHAESTUS (Roman name Vulcan) was the god of fire, crafts, and  blacksmiths. Hephaestus was the son of Zeu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OlymHephaestus.jpg"/>
          <p:cNvPicPr/>
          <p:nvPr/>
        </p:nvPicPr>
        <p:blipFill>
          <a:blip r:embed="rId2"/>
          <a:stretch/>
        </p:blipFill>
        <p:spPr>
          <a:xfrm>
            <a:off x="304920" y="1905120"/>
            <a:ext cx="342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3352320" y="1774800"/>
            <a:ext cx="53341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HRODITE (Roman name Venus) was the goddess of love and beauty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3" descr="OlymAphrodite.jpg"/>
          <p:cNvPicPr/>
          <p:nvPr/>
        </p:nvPicPr>
        <p:blipFill>
          <a:blip r:embed="rId2"/>
          <a:stretch/>
        </p:blipFill>
        <p:spPr>
          <a:xfrm>
            <a:off x="304920" y="1523880"/>
            <a:ext cx="2361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Oceans, mountains, forests, rivers, volcanoes, anim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iver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Sun, moon, stars, comets, plane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rain, clouds, storms, thunder, light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437920" y="144756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POLLO (Roman name Apollo) was the god of prophesy, music, light and medicine. His twin sister was Artemis.  His father was Zeus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3" descr="OlymApollo.jpg"/>
          <p:cNvPicPr/>
          <p:nvPr/>
        </p:nvPicPr>
        <p:blipFill>
          <a:blip r:embed="rId2"/>
          <a:stretch/>
        </p:blipFill>
        <p:spPr>
          <a:xfrm>
            <a:off x="380880" y="1295280"/>
            <a:ext cx="2159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200400" y="159984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ERMES (Roman name Mercury) was the messenger of the gods and guide of dead souls to the Underworld. A prankster and inventive genius from birth, Hermes also aided many hereoes in their quests. Hermes was the son Zeu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3" descr="OlymHermes.jpg"/>
          <p:cNvPicPr/>
          <p:nvPr/>
        </p:nvPicPr>
        <p:blipFill>
          <a:blip r:embed="rId2"/>
          <a:stretch/>
        </p:blipFill>
        <p:spPr>
          <a:xfrm>
            <a:off x="228600" y="1676520"/>
            <a:ext cx="3276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rigin of humanki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00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rbel"/>
              </a:rPr>
              <a:t>Birth and death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oic victor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eat defe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unish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ds and Godde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re did the gods come from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gods are there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re do the gods liv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you see the go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powers do the gods hav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314360" indent="-514080">
              <a:spcBef>
                <a:spcPts val="601"/>
              </a:spcBef>
              <a:buClr>
                <a:srgbClr val="e66c7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999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es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ntertai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s how ancient people viewed their wor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s that ancient people were curious to know about how the world came to b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literature and the med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cy Jacks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ord of the Rin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ash of the Tit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rcu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ittle Mermaid (King Trito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4648320" y="2685960"/>
            <a:ext cx="43815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Mu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ady Gaga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Kanye Wes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I'm just saying, Hey Mona Lis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e home you know you can't Rome without </a:t>
            </a: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Caesa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(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Flashing Light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ed Zeppel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- Achilles' Last St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181080" y="1407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advertis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and names based on mythological characters indicate high qu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rcury C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pollo Pian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5943600" y="2660760"/>
            <a:ext cx="2895480" cy="1911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6186600" y="4795920"/>
            <a:ext cx="2438280" cy="1969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4"/>
          <a:stretch/>
        </p:blipFill>
        <p:spPr>
          <a:xfrm>
            <a:off x="1981080" y="4481640"/>
            <a:ext cx="30481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8:50:47Z</dcterms:created>
  <dc:creator>GCSD</dc:creator>
  <dc:description/>
  <dc:language>en-US</dc:language>
  <cp:lastModifiedBy>Betty</cp:lastModifiedBy>
  <dcterms:modified xsi:type="dcterms:W3CDTF">2016-09-06T19:54:16Z</dcterms:modified>
  <cp:revision>37</cp:revision>
  <dc:subject/>
  <dc:title>What is Mythology?</dc:title>
</cp:coreProperties>
</file>